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8A1-922F-4695-9BFE-20149FE1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2DF-18A4-43BA-8CB2-F540CC54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A51-5C15-4B7D-91C1-24A464D9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156-0F35-45BE-B8C3-32423B44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BB7-0930-4455-B19E-384CEA2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DE9-34CB-45E6-927E-55D54579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A6D-F42B-4001-A97E-45D3724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FB7-8A3F-4357-B7D9-6926374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DE6-522E-441B-9C2E-05702F3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551-D16D-4CED-9E5A-346FBBE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01D-8A12-4564-9EC8-6CB18B2F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B1C-4ED7-47C5-B1AD-9DD7CB53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30DF-A140-45B7-BE8F-FA1D09D77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 Marcador de contenido" descr="bocatin.jpg"/>
          <p:cNvPicPr/>
          <p:nvPr/>
        </p:nvPicPr>
        <p:blipFill>
          <a:blip r:embed="rId1"/>
          <a:stretch/>
        </p:blipFill>
        <p:spPr>
          <a:xfrm>
            <a:off x="2214720" y="2000160"/>
            <a:ext cx="4714560" cy="437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cina creativ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Calibri"/>
              </a:rPr>
              <a:t>EL GATO Y EL PE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Ingredie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Jamón serr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ceitunas neg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n redo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i g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Realización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envuelve el pan con jamón serrano y las orejas con pan y foi gr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6 Marcador de contenido" descr="bocatin2.jpg"/>
          <p:cNvPicPr/>
          <p:nvPr/>
        </p:nvPicPr>
        <p:blipFill>
          <a:blip r:embed="rId1"/>
          <a:stretch/>
        </p:blipFill>
        <p:spPr>
          <a:xfrm>
            <a:off x="4419720" y="1854360"/>
            <a:ext cx="4724280" cy="3254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066680" y="304920"/>
            <a:ext cx="5486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ocat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840960" indent="-420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EL TIES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D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l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uin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pin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ir según f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El CIENP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gredie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pinil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eitu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i gra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r según 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0960" indent="-42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4 Marcador de contenido" descr="bocatin3.jpg"/>
          <p:cNvPicPr/>
          <p:nvPr/>
        </p:nvPicPr>
        <p:blipFill>
          <a:blip r:embed="rId1"/>
          <a:stretch/>
        </p:blipFill>
        <p:spPr>
          <a:xfrm>
            <a:off x="3657600" y="2065320"/>
            <a:ext cx="5257800" cy="388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23880" y="304920"/>
            <a:ext cx="5791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CIENPIES Y CIA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4 Marcador de contenido" descr="pez.jpg"/>
          <p:cNvPicPr/>
          <p:nvPr/>
        </p:nvPicPr>
        <p:blipFill>
          <a:blip r:embed="rId1"/>
          <a:stretch/>
        </p:blipFill>
        <p:spPr>
          <a:xfrm>
            <a:off x="571680" y="1862280"/>
            <a:ext cx="3786120" cy="402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Ingred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uevo d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mate natural o embuti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n de mol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Realiz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rtar y colocar igual que en la fo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arian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acer un buh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3049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os Pec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Ingred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00 gr de harina de tri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50 gr de azú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50 gr de mantequilla a la temperatura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 yema de hue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½ cuchara de s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 cucharadas de esencia de vain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galletas-navidenas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09480" y="380880"/>
            <a:ext cx="7467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alletas de Navida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438120"/>
            <a:ext cx="4572000" cy="55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Realiz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un bol, mezclar bien la mantequilla y el azúc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ñadir a la masa, la yema de huevo y la esencia de vainilla. Batir todo hasta que la masa se quede suave. Enseguida, añadir la harina de trigo y la sal. Mezclar todo muy bi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cer una bola con la masa y embalarla en un film plástico. Llevar a la nevera por 30 minu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tirar la masa de la nevera, amasarla un rato y luego, en una superficie enharinada, abrirla con la ayuda de un rodillo de cocina. Se recomienda que la espesura de la masa sea de ½ cm. Ahora, con la ayuda de los moldes, recorte la m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ortada la masa, disponer las galletas en una fuente de horno y llévelas al horno por unos 15 minutos aproximadamente, o hasta que se doren las gallet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izaremos muchas más recetas a la vez que aprenderemos a comer esos alimentos que nos resultan menos atractivos como la fruta y la verd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ninos-cocinando" descr=""/>
          <p:cNvPicPr/>
          <p:nvPr/>
        </p:nvPicPr>
        <p:blipFill>
          <a:blip r:embed="rId1"/>
          <a:stretch/>
        </p:blipFill>
        <p:spPr>
          <a:xfrm>
            <a:off x="4419720" y="1938240"/>
            <a:ext cx="4572000" cy="3443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62120" y="304920"/>
            <a:ext cx="807696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cina Creativa Y Diverti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5:26:54Z</dcterms:created>
  <dc:creator>ei</dc:creator>
  <dc:description/>
  <dc:language>en-US</dc:language>
  <cp:lastModifiedBy>Manuel</cp:lastModifiedBy>
  <dcterms:modified xsi:type="dcterms:W3CDTF">2010-11-13T17:34:53Z</dcterms:modified>
  <cp:revision>16</cp:revision>
  <dc:subject/>
  <dc:title>Diapositiva 1</dc:title>
</cp:coreProperties>
</file>